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1F16-5C29-421E-A4FD-32C02878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D49-86A0-4D8D-B1DB-8BC62CF9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92E-C9A7-4C6C-B046-A0617B65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B55-272E-4935-9DA2-1CB06E96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2419-5040-45FD-8015-27D2D883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5103-4AF8-4C61-A588-E89544FE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878B-14D5-4853-B0F3-EFC2D207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B27C-D6B6-4150-A773-4B9D97DD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1E5D-B853-4990-9150-F8C13606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962E-F8A6-4AB9-95B3-D7DBAC9B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50DE-9C79-4FEA-ADDC-4AD8353F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C0D-13E2-4EA8-B1BF-DB6242E5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E12F-A780-42B8-A9A2-4CE6C576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70E4-905D-48CB-8880-7D9D857C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80F1-AFD7-4857-A1FB-DF0439F5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3EA5-0C79-430F-ADFC-91384BBD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E79A-3773-4767-9DE9-6722CA57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42A-CA34-4C0C-8725-62D33FE6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41E3-9481-4D6F-9454-E6E18BA8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5DF-2143-46E4-BD7E-7AAFBDBF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85CA-B690-4E46-AF68-25047495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665-F811-4F05-B1DA-C671818D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70F-D0DF-42C6-A35E-7A96F957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284-5B2D-4551-BAB8-2A722357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D90C-F7B0-4EF0-9D4F-0E53A7E8DCC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F532-BCFD-4CAE-BAF7-E5857FD1B9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Ancillary Services Extract</a:t>
            </a:r>
            <a:br>
              <a:rPr sz="40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cent Discoveries and Repair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5257800"/>
            <a:ext cx="43434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Bill Kettlewell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(bkettlewell@ercot.co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RCOT Wholesale Client Servic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Foreign Key Issues with Three Tabl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6665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PLACEMENT_BID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RVICES_MARKE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NCILLARY_SVC_DETAIL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REPLACEMENT_BID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Issu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ARTY_BIDS_FOR field and MKTID field in the csv file were transposed from their order in the DDL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ARTY_BIDS_FOR data would load into MKTID field in databa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KTID is a foreign key to the SERVICES_MARKETS tabl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o records from REPLACEMENT_BIDS would load because of foreign key violation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Resolu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DL was updated to align with the extract data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SERVICES_MARKET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Issu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f a participant requests an initial extract, they will receive a few records for this table with DAYAHEADID’s that do not exist in the DAY_AHEAD_MARKETS tabl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records will not load due to foreign key violation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se records are Mock Market Data that was not purged from the archive as ERCOT launched the Retail Pilot Program in 2001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Resolu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ll Mock Market Data will be purged during the transition from Archive to Operational Data Sto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ANCILLARY_SVC_DETAIL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Issu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articipants receive records for this table with ASAGRID’s that do not exist in the ANCILLARY_SVC_AGREEMENTS tabl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records will not load due to foreign key violation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root of this issue is the way data is captured in the MOS source system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ANCILLARY_SVC_DETAIL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Issue (continued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NCILLARY_SVC_DETAI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NCILLARY_SVC_AGREEM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762120" y="2743200"/>
          <a:ext cx="8381880" cy="3433680"/>
        </p:xfrm>
        <a:graphic>
          <a:graphicData uri="http://schemas.openxmlformats.org/drawingml/2006/table">
            <a:tbl>
              <a:tblPr/>
              <a:tblGrid>
                <a:gridCol w="976320"/>
                <a:gridCol w="734760"/>
                <a:gridCol w="1098720"/>
                <a:gridCol w="1641600"/>
                <a:gridCol w="1120680"/>
                <a:gridCol w="1693800"/>
                <a:gridCol w="111600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AILTYP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YID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AGRID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REEDMW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CHED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ERPARTYQSEID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_ADDTIM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35767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/29/2004 09:37:4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46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35767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46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/29/2004 09:37:4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63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35767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63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/29/2004 13:47:5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AGRID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YID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CETYP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T_HOURENDING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DMW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SELFMW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_ADDTIM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35767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46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S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/30/2004 08:00:0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/29/2004 09:37:4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ANCILLARY_SVC_DETAIL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Potential Resoluti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y be able to repackage extract data after transition to Operational Data Stor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ata is available in the Bids and Schedules Extrac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move the ANCILLARY_SVC_DETAILS and ANCILLARY_SVC_AGREEMENTS tables from the Ancillary Services Extract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iscontinue the Ancillary Services Extract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??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20:23:20Z</dcterms:created>
  <dc:creator>Bill Kettlewell</dc:creator>
  <dc:description/>
  <dc:language>en-US</dc:language>
  <cp:lastModifiedBy>bkettlewell</cp:lastModifiedBy>
  <dcterms:modified xsi:type="dcterms:W3CDTF">2005-11-03T18:50:09Z</dcterms:modified>
  <cp:revision>75</cp:revision>
  <dc:subject>DEWG</dc:subject>
  <dc:title>AS Extract</dc:title>
</cp:coreProperties>
</file>